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19C-44BE-4A32-AD5E-BBF38A8F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14B-4A87-45EF-A1F1-98F030D9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EB2-D50B-4319-A9A0-03E019EE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FA2-4D5E-401A-A9A6-ED57DD4A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B36-5CE3-41FB-96B7-6594FC75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2603-1B38-40EE-9EE4-10A15920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1659-1BBA-410A-BBBE-67796686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FF4-6411-4216-8601-2C4927BC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941-B10E-431A-ADC0-0CF1DE57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CB0-64F6-4300-9DEA-490780B2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70D-D982-470C-873A-A3ACEFCC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724-9B06-4ABF-A78F-96DF9438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FA51-6ACB-40EE-A9F5-C9AB574C6E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D:\&#38899;&#25928;\&#23567;&#38632;&#27801;&#27801;.mpga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yu8" descr=""/>
          <p:cNvPicPr/>
          <p:nvPr/>
        </p:nvPicPr>
        <p:blipFill>
          <a:blip r:embed="rId1"/>
          <a:stretch/>
        </p:blipFill>
        <p:spPr>
          <a:xfrm>
            <a:off x="228600" y="190440"/>
            <a:ext cx="8001000" cy="6362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782800">
            <a:off x="6366240" y="2853720"/>
            <a:ext cx="456408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雨铃铛</a:t>
            </a:r>
            <a:endParaRPr b="0" lang="en-US" sz="2400" spc="1" strike="noStrike">
              <a:ln w="9360">
                <a:solidFill>
                  <a:srgbClr val="ffff99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3" name="GIF-23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80520" y="6095880"/>
            <a:ext cx="663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J12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762120" y="1219320"/>
            <a:ext cx="55623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楷体_GB2312"/>
              </a:rPr>
              <a:t>画一画你观察到的春雨，</a:t>
            </a: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楷体_GB2312"/>
              </a:rPr>
              <a:t>写上你的诗句，一定很棒哦！</a:t>
            </a: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48769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谢谢！    陕西 大同路小学 石春容老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105160" y="60948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看，小朋友在雨中多开心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你觉得春雨还像什么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春雨的声音还可以怎么说呢？模仿课文，说说你的诗句！你也能做小诗人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yu16" descr=""/>
          <p:cNvPicPr/>
          <p:nvPr/>
        </p:nvPicPr>
        <p:blipFill>
          <a:blip r:embed="rId1"/>
          <a:stretch/>
        </p:blipFill>
        <p:spPr>
          <a:xfrm>
            <a:off x="228600" y="0"/>
            <a:ext cx="473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yu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yu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yu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yu12" descr=""/>
          <p:cNvPicPr/>
          <p:nvPr/>
        </p:nvPicPr>
        <p:blipFill>
          <a:blip r:embed="rId1"/>
          <a:stretch/>
        </p:blipFill>
        <p:spPr>
          <a:xfrm>
            <a:off x="60948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yu6" descr="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1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yu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yu13" descr=""/>
          <p:cNvPicPr/>
          <p:nvPr/>
        </p:nvPicPr>
        <p:blipFill>
          <a:blip r:embed="rId1"/>
          <a:stretch/>
        </p:blipFill>
        <p:spPr>
          <a:xfrm>
            <a:off x="68580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3:09:28Z</dcterms:created>
  <dc:creator>chen</dc:creator>
  <dc:description/>
  <dc:language>en-US</dc:language>
  <cp:lastModifiedBy>孙德晓</cp:lastModifiedBy>
  <dcterms:modified xsi:type="dcterms:W3CDTF">2005-02-25T15:35:25Z</dcterms:modified>
  <cp:revision>2</cp:revision>
  <dc:subject/>
  <dc:title>PowerPoint 演示文稿</dc:title>
</cp:coreProperties>
</file>