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gif" ContentType="image/gif"/>
  <Override PartName="/ppt/media/image24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3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13.png" ContentType="image/png"/>
  <Override PartName="/ppt/media/image2.jpeg" ContentType="image/jpeg"/>
  <Override PartName="/ppt/media/image16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9.jpeg" ContentType="image/jpeg"/>
  <Override PartName="/ppt/media/coin.wav" ContentType="audio/x-wav"/>
  <Override PartName="/ppt/media/image23.jpeg" ContentType="image/jpeg"/>
  <Override PartName="/ppt/media/image12.png" ContentType="image/png"/>
  <Override PartName="/ppt/media/image20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B97-19A3-495B-A64B-AA63F41F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0EA-AEAB-4A0B-81E4-F70AEDAC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6A5-7241-41C0-849E-765AA558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EE4-DAD3-407B-ADA1-47CDFDF7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1C2-88F2-4933-BB0E-72D5BFB1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01D-6D0A-48E6-B37F-155C9B5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960-8F70-40B4-9340-E439AF02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C68-1D4B-422F-B67C-48412741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D99-089D-450D-B1C3-806B989E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FF0-E09E-4BB9-A3F0-04A69AB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BE4-6E82-4A54-AC70-C5A33D9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DD1-A408-490B-AFE2-C5E6478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E17-1115-49EC-9ED3-06796573E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oi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700360" y="1341360"/>
            <a:ext cx="5329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秋天的怀念</a:t>
            </a:r>
            <a:endParaRPr b="1" lang="en-US" sz="1800" spc="1" strike="noStrike">
              <a:ln w="22320">
                <a:solidFill>
                  <a:srgbClr val="ff66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211640" y="393372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听着听着收音机里甜美的歌声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04292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971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活着有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900000" y="486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双腿瘫痪后，我的脾气变的                 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7"/>
          <p:cNvSpPr txBox="1"/>
          <p:nvPr/>
        </p:nvSpPr>
        <p:spPr>
          <a:xfrm>
            <a:off x="2627280" y="5516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1800" spc="1" strike="noStrike">
              <a:ln w="64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187280" y="26028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察言观色 感悟母爱</a:t>
            </a:r>
            <a:endParaRPr b="1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527120" y="27478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4360" y="2708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找出文中描写母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作，语言和神态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词句，用不同的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符号标出，并圈出重点词，然后小组一起交流学习成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76000" y="2787480"/>
            <a:ext cx="59641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身患绝症  病入膏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儿子瘫痪  暴怒无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WordArt 7" descr=""/>
          <p:cNvPicPr/>
          <p:nvPr/>
        </p:nvPicPr>
        <p:blipFill>
          <a:blip r:embed="rId2"/>
          <a:stretch/>
        </p:blipFill>
        <p:spPr>
          <a:xfrm>
            <a:off x="517680" y="469800"/>
            <a:ext cx="804060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amera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39640" y="2421000"/>
            <a:ext cx="106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怎么说的，又是怎么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55840" y="371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468360" y="18900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ashreg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深受苦楚的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84360" y="4797360"/>
            <a:ext cx="58323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这时，母亲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出去，在我看不见的地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偷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注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我的动静。当一切恢复沉寂，她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悄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进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眼圈红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看着我。（品味“悄悄”，“偷偷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178760" y="518328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340000" y="260280"/>
            <a:ext cx="5545080" cy="1586160"/>
          </a:xfrm>
          <a:prstGeom prst="cloudCallout">
            <a:avLst>
              <a:gd name="adj1" fmla="val -17421"/>
              <a:gd name="adj2" fmla="val 909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348000" y="620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楷体_GB2312"/>
              </a:rPr>
              <a:t>母爱是理解</a:t>
            </a:r>
            <a:endParaRPr b="1" lang="en-US" sz="1800" spc="1" strike="noStrike">
              <a:ln w="2232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楷体_GB2312"/>
              <a:ea typeface="楷体_GB2312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908000" y="3860640"/>
            <a:ext cx="1727280" cy="1656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6148440" y="2281320"/>
            <a:ext cx="91440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3298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1042920" y="465300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_GB2312"/>
              </a:rPr>
              <a:t>动作描写和神态描写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当一切恢复沉寂，她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悄悄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进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眼圈红红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看着我。“听说北海的花儿都开了，我推着你去走走。”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总是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这么说。母亲喜欢花，可自从我的腿瘫痪后，她侍弄的那些花都死了。“不，我不去！”我狠命地捶打这两条可恨的腿，喊着：“我活着有什么劲！”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母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扑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过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抓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我的手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忍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住哭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声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咱娘儿俩在一块儿，好好儿活，好好儿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……”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（品味“扑”，“抓’’，“忍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74072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0092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140360" y="0"/>
            <a:ext cx="5003640" cy="2637000"/>
          </a:xfrm>
          <a:prstGeom prst="cloudCallout">
            <a:avLst>
              <a:gd name="adj1" fmla="val -34773"/>
              <a:gd name="adj2" fmla="val 581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WordArt 9" descr=""/>
          <p:cNvPicPr/>
          <p:nvPr/>
        </p:nvPicPr>
        <p:blipFill>
          <a:blip r:embed="rId2"/>
          <a:stretch/>
        </p:blipFill>
        <p:spPr>
          <a:xfrm>
            <a:off x="5138640" y="390600"/>
            <a:ext cx="3262320" cy="2663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0"/>
          <p:cNvSpPr/>
          <p:nvPr/>
        </p:nvSpPr>
        <p:spPr>
          <a:xfrm>
            <a:off x="316080" y="249696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900" y="-1800"/>
                </a:moveTo>
                <a:lnTo>
                  <a:pt x="18900" y="-18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755640" y="692280"/>
            <a:ext cx="1584360" cy="1368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2916360" y="4724280"/>
            <a:ext cx="718920" cy="14414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8"/>
          <p:cNvSpPr txBox="1"/>
          <p:nvPr/>
        </p:nvSpPr>
        <p:spPr>
          <a:xfrm>
            <a:off x="2556000" y="544500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楷体_GB2312"/>
              </a:rPr>
              <a:t>动作 语言 神态描写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3" name="coin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那天我又独自坐在屋里，看着窗外的树叶“刷刷拉拉”地飘落。母亲进来了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挡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在窗前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：“北海的菊花开了，我推着你去看看吧。”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 rot="7738800">
            <a:off x="5966640" y="2250360"/>
            <a:ext cx="2394000" cy="3456000"/>
          </a:xfrm>
          <a:prstGeom prst="wedgeRoundRectCallout">
            <a:avLst>
              <a:gd name="adj1" fmla="val -7481"/>
              <a:gd name="adj2" fmla="val 1197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挡住的是儿子烦躁的情绪和对生活的绝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2000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77548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92784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 rot="7003200">
            <a:off x="3937320" y="2642040"/>
            <a:ext cx="1309680" cy="3946680"/>
          </a:xfrm>
          <a:prstGeom prst="cloudCallout">
            <a:avLst>
              <a:gd name="adj1" fmla="val 2641180"/>
              <a:gd name="adj2" fmla="val 72170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1"/>
          <p:cNvSpPr txBox="1"/>
          <p:nvPr/>
        </p:nvSpPr>
        <p:spPr>
          <a:xfrm rot="1796400">
            <a:off x="3466800" y="3936960"/>
            <a:ext cx="243036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母爱是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细心的呵护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憔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脸现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央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般的神色。“什么时候？”“你要是愿意，就明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她说。我的回答已经让她喜出望外了。“好吧，就明天。”我说。她高兴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会儿坐下，一会地站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“那就赶紧准备准备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500720" y="-243000"/>
            <a:ext cx="3744720" cy="2952720"/>
          </a:xfrm>
          <a:prstGeom prst="cloudCallout">
            <a:avLst>
              <a:gd name="adj1" fmla="val -4449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4932360" y="549360"/>
            <a:ext cx="295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母爱是商量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是理解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了，坐在我身边，絮絮叨叨地说着：“看完菊花，咱们就去‘仿膳’，你小时候最爱吃那儿的豌豆黄儿。还记得那回我带你去北海吗？你偏说那杨树花是毛毛虫，跑着，一脚踩扁一个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忽然不说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对于“跑”和“踩”一类的字眼儿，她比我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敏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她又悄悄地出去了。（聚焦“笑”，“敏感” 透过这几个字，你看出了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2627280" y="404640"/>
            <a:ext cx="4392720" cy="1152720"/>
          </a:xfrm>
          <a:prstGeom prst="cloudCallout">
            <a:avLst>
              <a:gd name="adj1" fmla="val -49060"/>
              <a:gd name="adj2" fmla="val 561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3276720" y="54936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母爱是细心，是宽容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  <p:sndAc>
      <p:stSnd>
        <p:snd r:embed="rId2" name="coin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395280" y="234936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5564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547640" y="508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    d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395280" y="189000"/>
            <a:ext cx="31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我会读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84360" y="13413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F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、我那个有病的儿子和我那个还未成年的女儿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763640" y="3789360"/>
            <a:ext cx="7488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们俩在一块儿，一定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好好儿活，好好儿活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734080"/>
            <a:ext cx="53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母爱是牵挂，是难以割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六的晚上妈妈在校门口寻找我的目光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日的凌晨六点妈妈为我捧出的香喷喷的热汤面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ordArt 6" descr=""/>
          <p:cNvPicPr/>
          <p:nvPr/>
        </p:nvPicPr>
        <p:blipFill>
          <a:blip r:embed="rId2"/>
          <a:stretch/>
        </p:blipFill>
        <p:spPr>
          <a:xfrm>
            <a:off x="530280" y="324000"/>
            <a:ext cx="8053200" cy="83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1187280" y="765000"/>
            <a:ext cx="658980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感恩的心 细说母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11280" y="328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329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463840" y="2603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23882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爱是一首田园诗，幽远纯净，和雅清淡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爱是一幅山水画，洗去铅华雕饰，留下清新自然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爱是一首深情的歌，婉转悠扬，轻吟浅唱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爱是一阵和煦的风，吹去朔雪纷飞，带来春光无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95280" y="2924280"/>
            <a:ext cx="874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细读本文，你能体会到作者在写作此文时是怎样的心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84360" y="5013360"/>
            <a:ext cx="223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悔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203640" y="501336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悲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651640" y="494172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怀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6"/>
          <p:cNvSpPr txBox="1"/>
          <p:nvPr/>
        </p:nvSpPr>
        <p:spPr>
          <a:xfrm>
            <a:off x="611280" y="260280"/>
            <a:ext cx="79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16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回读作者 体会感情</a:t>
            </a:r>
            <a:endParaRPr b="1" lang="en-US" sz="1800" spc="1" strike="noStrike">
              <a:ln w="316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黄色4"/>
          <p:cNvPicPr/>
          <p:nvPr/>
        </p:nvPicPr>
        <p:blipFill>
          <a:blip r:embed="rId2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白色7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紫红5"/>
          <p:cNvPicPr/>
          <p:nvPr/>
        </p:nvPicPr>
        <p:blipFill>
          <a:blip r:embed="rId4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粉红"/>
          <p:cNvPicPr/>
          <p:nvPr/>
        </p:nvPicPr>
        <p:blipFill>
          <a:blip r:embed="rId5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0" y="191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7020000" y="1989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2700360" y="60958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7"/>
          <p:cNvSpPr txBox="1"/>
          <p:nvPr/>
        </p:nvSpPr>
        <p:spPr>
          <a:xfrm>
            <a:off x="104292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18"/>
          <p:cNvSpPr txBox="1"/>
          <p:nvPr/>
        </p:nvSpPr>
        <p:spPr>
          <a:xfrm>
            <a:off x="1187280" y="2781360"/>
            <a:ext cx="685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0000ff">
                    <a:alpha val="60000"/>
                  </a:srgbClr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我为什么去看菊花？</a:t>
            </a:r>
            <a:endParaRPr b="0" lang="en-US" sz="6000" spc="-1" strike="noStrike">
              <a:ln w="0">
                <a:noFill/>
              </a:ln>
              <a:solidFill>
                <a:srgbClr val="0000ff">
                  <a:alpha val="60000"/>
                </a:srgbClr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菊花1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5300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835280" y="5084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和妹妹去看了菊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60280"/>
            <a:ext cx="88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速读课文，划分段落，简单归纳每一段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50280" y="836640"/>
            <a:ext cx="32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提示线索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96600" y="187812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一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12560" y="2741760"/>
            <a:ext cx="13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二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737640" y="360504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三节至第五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484200" y="5118120"/>
            <a:ext cx="13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六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538000" y="191628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要带我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519640" y="2781360"/>
            <a:ext cx="18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答应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423080" y="4292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再也不能同我去看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6055920" y="5732640"/>
            <a:ext cx="265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白色的花高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DSCF13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24000" y="3789360"/>
            <a:ext cx="3816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60360" y="53737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ff66"/>
                </a:solidFill>
                <a:latin typeface="Arial"/>
                <a:ea typeface="黑体"/>
              </a:rPr>
              <a:t>黄色的花淡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547640" y="263700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08000" y="5302080"/>
            <a:ext cx="885672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紫红色的花热烈而深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8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侍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憔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诀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絮絮叨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出望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9280" y="0"/>
            <a:ext cx="432144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我理解！</a:t>
            </a:r>
            <a:endParaRPr b="0" lang="en-US" sz="18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195640" y="1557360"/>
            <a:ext cx="576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908000" y="24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人瘦弱，面色不好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2050920" y="155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经营照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050920" y="342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多指不再相见的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340000" y="43657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说话啰嗦，唠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58972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遇到出乎意料的事情而特别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cashreg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者多次在文中也多次提到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菊花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何用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带我看花，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唤起我生存的欲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的淡雅高洁，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品质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热烈深沉，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爱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爱花，我看菊花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母亲的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在我眼里五彩缤纷，泼泼洒洒，也是在告诉读者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我的人生态度发生了转变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。（文中何处可见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为什么是秋天的怀念？秋天有什么值得作者去怀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79280" y="22050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818440" y="21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母亲是秋天去世的，“我”深切怀念母亲对“我”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95280" y="292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里去看菊花，是母亲对“我”的希望，“我”用行动向母亲表示，不仅自己好好活，还要带着妹妹好好活，让母亲在九泉之下放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95280" y="450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是菊花盛开的时节，“菊花”是母亲坚韧、乐观精神的象征，看到菊花绽放得那样鲜艳、灿烂，让“我”明白了要好好儿活，活出精彩，做生活的强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1187280" y="33336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1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升华情感 延伸拓展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66760" y="26766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8360" y="263700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74312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24000" y="4437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母亲，儿子来看您了。自从您秋天走后，我和妹妹都懂了您的话，您放心吧，我俩在一块，一定会好好儿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ad5ad6eddc451da5e13c095b6fd5266d11632e3"/>
          <p:cNvPicPr/>
          <p:nvPr/>
        </p:nvPicPr>
        <p:blipFill>
          <a:blip r:embed="rId2"/>
          <a:stretch/>
        </p:blipFill>
        <p:spPr>
          <a:xfrm>
            <a:off x="324000" y="260280"/>
            <a:ext cx="2160360" cy="302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u=150422484,3957471278&amp;fm=52&amp;gp=0"/>
          <p:cNvPicPr/>
          <p:nvPr/>
        </p:nvPicPr>
        <p:blipFill>
          <a:blip r:embed="rId3"/>
          <a:stretch/>
        </p:blipFill>
        <p:spPr>
          <a:xfrm>
            <a:off x="2987640" y="333360"/>
            <a:ext cx="2527200" cy="295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u=1216437939,2559318412&amp;fm=23&amp;gp=0"/>
          <p:cNvPicPr/>
          <p:nvPr/>
        </p:nvPicPr>
        <p:blipFill>
          <a:blip r:embed="rId4"/>
          <a:stretch/>
        </p:blipFill>
        <p:spPr>
          <a:xfrm>
            <a:off x="250920" y="3645000"/>
            <a:ext cx="2808360" cy="2698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u=3005625631,709507244&amp;fm=52&amp;gp=0"/>
          <p:cNvPicPr/>
          <p:nvPr/>
        </p:nvPicPr>
        <p:blipFill>
          <a:blip r:embed="rId5"/>
          <a:stretch/>
        </p:blipFill>
        <p:spPr>
          <a:xfrm>
            <a:off x="3348000" y="3645000"/>
            <a:ext cx="208764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u=3209926828,2417030040&amp;fm=23&amp;gp=0"/>
          <p:cNvPicPr/>
          <p:nvPr/>
        </p:nvPicPr>
        <p:blipFill>
          <a:blip r:embed="rId6"/>
          <a:stretch/>
        </p:blipFill>
        <p:spPr>
          <a:xfrm>
            <a:off x="5867280" y="40464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u=3443515491,2247563388&amp;fm=9&amp;gp=0"/>
          <p:cNvPicPr/>
          <p:nvPr/>
        </p:nvPicPr>
        <p:blipFill>
          <a:blip r:embed="rId7"/>
          <a:stretch/>
        </p:blipFill>
        <p:spPr>
          <a:xfrm>
            <a:off x="5867280" y="3284640"/>
            <a:ext cx="280836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短篇小说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遥远的清平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拜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若琴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文随笔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言自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务虚笔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铁生作品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曾先后获全国优秀短篇小说奖、鲁迅文学奖，以及多种全国文学刊物奖。一些作品被译成英、法、日等文字，单篇或结集在海外出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史铁生荣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语文学传播大奖年度杰出成就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同年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之六）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舍散文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等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042920" y="404640"/>
            <a:ext cx="4321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908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作品集</a:t>
            </a:r>
            <a:endParaRPr b="1" lang="en-US" sz="1800" spc="1" strike="noStrike">
              <a:ln cap="rnd" w="1908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900000" y="1484280"/>
            <a:ext cx="741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掩卷沉思 妙笔生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63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959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50920" y="549360"/>
            <a:ext cx="88930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学完本文之后，你是否被文中“母亲”的伟大母爱所感动呢？你会不会不由自主地想到你的妈妈对你所做的一切，此时此刻你是否也想对妈妈说些什么呢？请以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妈妈，我想对您说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为题，写一封信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课外阅读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58071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0" dur="279496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3"/>
                </p:tgtEl>
              </p:cMediaNode>
            </p:audio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836640"/>
            <a:ext cx="809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、用歌声，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吟唱母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、预习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课，熟读成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、背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199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01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母爱诗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531170_123912533669_2"/>
          <p:cNvPicPr/>
          <p:nvPr/>
        </p:nvPicPr>
        <p:blipFill>
          <a:blip r:embed="rId2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62160" y="260280"/>
            <a:ext cx="47242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铁生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生于北京，著名小说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毕业于北京清华大学附属中学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去陕北延安插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因病致瘫，转回北京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起到北京某街道工厂做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工人。后又患尿毒症，靠透析维持生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发表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学教授及其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后陆续发表中、短篇小说，散文多篇，其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公认为中国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来最优秀的散文之一。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屋小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首届鲁迅文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5_101231125948_1"/>
          <p:cNvPicPr/>
          <p:nvPr/>
        </p:nvPicPr>
        <p:blipFill>
          <a:blip r:embed="rId3"/>
          <a:stretch/>
        </p:blipFill>
        <p:spPr>
          <a:xfrm>
            <a:off x="0" y="1700280"/>
            <a:ext cx="3635280" cy="47419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0" y="333360"/>
            <a:ext cx="41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走近作者 </a:t>
            </a:r>
            <a:endParaRPr b="1" lang="en-US" sz="1800" spc="1" strike="noStrike">
              <a:ln w="381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4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144880" cy="295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0200" y="324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汉仪大隶书简"/>
              </a:rPr>
              <a:t>史铁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233676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于北京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的他因病瘫痪，从此永远坐上了轮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2205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812000" y="4770360"/>
            <a:ext cx="133200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093080" y="4005360"/>
            <a:ext cx="143964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53352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到最狂妄的年龄上忽的残废了双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87840" y="76320"/>
            <a:ext cx="3635640" cy="3049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2708280" cy="3860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95480" y="350532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条腿瘫痪后的最初几年，我找不到工作，找不到出路，突然似乎什么都找不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 rot="3060000">
            <a:off x="8195400" y="6103080"/>
            <a:ext cx="609480" cy="60480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6720" y="1917720"/>
            <a:ext cx="5562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8a3700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秋天的怀念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8a3700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5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826920" y="2924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听读课文，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划出最让你感动的语句，想一想，是什么原因让你产生了共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971640" y="404640"/>
            <a:ext cx="698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情读美听 寻找共鸣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2205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瘫痪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468360" y="189000"/>
            <a:ext cx="44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18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oin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4T21:16:34Z</dcterms:created>
  <dc:creator/>
  <dc:description/>
  <cp:keywords/>
  <dc:language>en-US</dc:language>
  <cp:lastModifiedBy>User</cp:lastModifiedBy>
  <dcterms:modified xsi:type="dcterms:W3CDTF">2016-08-14T10:12:58Z</dcterms:modified>
  <cp:revision>22</cp:revision>
  <dc:subject/>
  <dc:title>幻灯片 1</dc:title>
</cp:coreProperties>
</file>