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83F4-DC2A-4DB0-AE2F-4092E0F71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4C45-ED5E-407A-B77C-DE7B87AD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77EE-870A-4492-90E6-7040B0C08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CE22-2DB6-4A60-BB3F-C8C557CC0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F0EF-4A88-4D07-B597-4BB7CFFED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8ECA-DA97-4C5C-9333-20D3B4F2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5020-0CD4-4978-817E-22419E87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A70D-72E5-4476-A210-7D44EEEC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3586-F9B3-4ABB-97A1-676F8F8E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9DE6-DCFF-4F3F-B873-84A13A70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2D66-1E08-462B-A36E-0CEDF431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CD6A-F736-4D6C-A72C-3C584193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9591-BED3-4F84-B6DE-55A610CA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9413-C248-45AC-904A-F74DA12A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7B66-7184-456B-8BFD-E94C4B08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697D-AFBF-45FA-8168-4B43E75B8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3590-7076-4788-9DB6-7D94C3C71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9061-96D2-417F-9F0D-D1BC17A8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511B-1300-475D-96A6-26B370F6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7E6F-4227-497F-8CC3-64835D15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CD81-57D5-4B1F-87DE-945A062E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CF0E-6B06-4F1C-BD36-5CF725F2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C49F-C13C-44C9-88DF-3C6CE325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E3F7-43DD-40A2-8A3B-FC024B61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212B-A3E7-49D7-A400-89026724BD1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54AE-22EC-4321-A145-FBE5F6F73F7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1066320"/>
            <a:ext cx="38862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0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的认识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rcRect l="0" t="2815" r="71386" b="0"/>
          <a:stretch/>
        </p:blipFill>
        <p:spPr>
          <a:xfrm>
            <a:off x="533520" y="838080"/>
            <a:ext cx="2243160" cy="2633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>
            <a:lum contrast="12000"/>
          </a:blip>
          <a:srcRect l="37363" t="2815" r="37367" b="0"/>
          <a:stretch/>
        </p:blipFill>
        <p:spPr>
          <a:xfrm>
            <a:off x="3581280" y="838080"/>
            <a:ext cx="1981440" cy="2633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>
            <a:lum contrast="18000"/>
          </a:blip>
          <a:srcRect l="72359" t="2815" r="0" b="0"/>
          <a:stretch/>
        </p:blipFill>
        <p:spPr>
          <a:xfrm>
            <a:off x="6519960" y="838080"/>
            <a:ext cx="2166840" cy="2633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819520" y="1981080"/>
            <a:ext cx="685800" cy="257400"/>
          </a:xfrm>
          <a:custGeom>
            <a:avLst/>
            <a:gdLst>
              <a:gd name="textAreaLeft" fmla="*/ 106920 w 685800"/>
              <a:gd name="textAreaRight" fmla="*/ 600120 w 685800"/>
              <a:gd name="textAreaTop" fmla="*/ 64440 h 257400"/>
              <a:gd name="textAreaBottom" fmla="*/ 193320 h 257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1981080"/>
            <a:ext cx="685800" cy="257400"/>
          </a:xfrm>
          <a:custGeom>
            <a:avLst/>
            <a:gdLst>
              <a:gd name="textAreaLeft" fmla="*/ 106920 w 685800"/>
              <a:gd name="textAreaRight" fmla="*/ 600120 w 685800"/>
              <a:gd name="textAreaTop" fmla="*/ 64440 h 257400"/>
              <a:gd name="textAreaBottom" fmla="*/ 193320 h 257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9000" y="342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1240" y="342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16280" y="342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>
            <a:lum contrast="18000"/>
          </a:blip>
          <a:stretch/>
        </p:blipFill>
        <p:spPr>
          <a:xfrm>
            <a:off x="1828800" y="4724280"/>
            <a:ext cx="58672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rcRect l="0" t="0" r="65389" b="0"/>
          <a:stretch/>
        </p:blipFill>
        <p:spPr>
          <a:xfrm>
            <a:off x="685800" y="1066680"/>
            <a:ext cx="2743200" cy="3067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rcRect l="54809" t="0" r="0" b="0"/>
          <a:stretch/>
        </p:blipFill>
        <p:spPr>
          <a:xfrm>
            <a:off x="5029200" y="1143000"/>
            <a:ext cx="3581280" cy="3067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886200" y="2971800"/>
            <a:ext cx="685800" cy="257040"/>
          </a:xfrm>
          <a:custGeom>
            <a:avLst/>
            <a:gdLst>
              <a:gd name="textAreaLeft" fmla="*/ 106920 w 685800"/>
              <a:gd name="textAreaRight" fmla="*/ 600120 w 685800"/>
              <a:gd name="textAreaTop" fmla="*/ 64080 h 257040"/>
              <a:gd name="textAreaBottom" fmla="*/ 192960 h 25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80160" y="4572000"/>
            <a:ext cx="292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3 </a:t>
            </a: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－ </a:t>
            </a: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3 </a:t>
            </a: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＝ </a:t>
            </a: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25400" y="1325520"/>
            <a:ext cx="7693200" cy="2103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80160" y="4572000"/>
            <a:ext cx="292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4 </a:t>
            </a: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＋ </a:t>
            </a: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0 </a:t>
            </a: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＝ </a:t>
            </a: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930320" cy="825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14160" y="2209680"/>
            <a:ext cx="173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－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0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52640" y="2225520"/>
            <a:ext cx="173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－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0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14160" y="3625920"/>
            <a:ext cx="173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0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＋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52640" y="3641760"/>
            <a:ext cx="173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0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＋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0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14160" y="4921200"/>
            <a:ext cx="173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－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52640" y="4937040"/>
            <a:ext cx="173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－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4T01:56:28Z</dcterms:created>
  <dc:creator>yanchao</dc:creator>
  <dc:description/>
  <dc:language>en-US</dc:language>
  <cp:lastModifiedBy>SKYLZY</cp:lastModifiedBy>
  <dcterms:modified xsi:type="dcterms:W3CDTF">2007-09-19T10:11:38Z</dcterms:modified>
  <cp:revision>76</cp:revision>
  <dc:subject/>
  <dc:title>数一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807000000000001024120</vt:lpwstr>
  </property>
</Properties>
</file>