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1F3-90B8-40A4-8836-7B9402E5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54572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787-223D-4815-988C-4EE4806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836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CF4-B5E1-4173-9FA6-CF2CE190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4796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5784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4796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5784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966-B64E-446B-A285-D3DF6520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0D65-E636-4AD0-925E-97F709E7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50C-EBC0-41FE-B912-18FB317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966-9342-4E9C-A86E-9596CAC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4609-3822-4634-84E4-2EB9714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6F9D-1168-4154-9C27-CBCCCED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EB00-A7CA-4DF5-A3A8-0D8CC2E3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7CAE-178B-4186-8F01-5BF7D65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9B5-8DC4-411A-AE2C-C43C24C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36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AD3-803A-4998-A1E9-01B3CF9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993A-F161-4AEB-9F87-0AFD1B44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54572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EDA7-9F35-4DFD-8A40-B18F870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836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078F-7E28-42C9-B5B0-5AFD42E0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4796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7840" y="426708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4796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57840" y="4545720"/>
            <a:ext cx="191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28C-E160-432B-83D9-35A1DC7C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B1E-BD7C-41A0-B850-4A0CAAF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70B-8AC1-4CDE-BCCB-C148F9A5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38D-D64F-4677-B59F-7913FBCE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E0D-F68E-4D84-B1CF-B674A9C3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084-C7D9-4D1B-A57A-0A908EB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3680" y="454572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A17-1415-4290-A7B8-6063838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3680" y="4267080"/>
            <a:ext cx="2900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54572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F1A-4A3E-40BD-81DA-2D2B3C0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4419720"/>
            <a:ext cx="1752840" cy="1752480"/>
          </a:xfrm>
          <a:prstGeom prst="roundRect">
            <a:avLst>
              <a:gd name="adj" fmla="val 879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9144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Franklin Gothic Demi Cond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Franklin Gothic Demi C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D23F-449E-462D-84D3-62AA3063405E}" type="slidenum"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58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5CA-A130-441E-8758-3C0C115C6DF6}" type="slidenum">
              <a:rPr b="0" lang="zh-CN" sz="1400" spc="-1" strike="noStrike">
                <a:solidFill>
                  <a:srgbClr val="ffffff"/>
                </a:solidFill>
                <a:latin typeface="Franklin Gothic Demi Con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Demi C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Franklin Gothic Demi Cond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Franklin Gothic Demi Cond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Franklin Gothic Demi C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 Cond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 Cond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Franklin Gothic Demi C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ranklin Gothic Demi Cond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Franklin Gothic Demi Cond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Franklin Gothic Demi C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ranklin Gothic Demi Cond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Franklin Gothic Demi Con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ranklin Gothic Demi Cond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Franklin Gothic Demi Con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ranklin Gothic Demi Cond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35.jpeg"/><Relationship Id="rId16" Type="http://schemas.openxmlformats.org/officeDocument/2006/relationships/image" Target="../media/image36.jpe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" Target="slide11.xm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10.xml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9208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车出张家界市区向东北方向走了半个多小时，虽见群山连绵不断，但却平淡无奇。不料，车子刚转过一个山头，眼前的景色突变，就像顷刻间拉开了巨大的帏幕，托出了一个神奇的世界。重重叠叠的山峰拔地而起，高耸入云。它们是那么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座挨着一座，一座有一座的特点，一座有一座的姿态。有的像背草篓的采药老人，有的像手捧鲜花的妙龄少女，有的像摩天大楼，有的像两根尖尖的竹笋，有的一柱独峙，像一支长长工的利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纷纷地排列在你的面前，张着宽阔的臂膀，向你拥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你微笑，向你絮絮低语。这每一座山峰，都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美妙的画，一首优美的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9144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张家界处处可见的峰林中，最使人难以忘怀的要数金鞭岩。金鞭岩高出峰林之上，与其他山峰迥然不同，从山肢到顶巅，像斧砍刀劈似的，只在它的顶上生长着几株苍郁不衰的松树。夕阳映照下的金鞭岩，金光闪耀，有如一支怒举的金鞭，直指云霄。一座巨大的山峰紧靠着金鞭岩，巨峰酷似雄鹰，鹰首高昂，凌空展翅，一只翅膀有力地半抱着金鞭岩，气势磅礴，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是有名的“神鹰护金鞭”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920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峰中最高的要算黄狮寨了，寨顶有一片平地，四周天然形成十多处观景台。站在观景台上，放眼望去，张家界的美景尽收眼底。我们来到一处叫点将台的地方，朝下望是万丈渊，台的对面齐齐刷刷地屹立着大小八九座山峰，像一个个虎背熊腰的威武将军，在等待着出征的号令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65160"/>
            <a:ext cx="8001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鞭溪是天然形成的一条美丽的溪流，因金鞭岩而得名。溪水弯弯曲曲自西向东流去，久旱不断流。走近金鞭溪，满目青翠，连衣服都映成了淡淡的绿色。放轻脚步谛听，流水潺潺，伴着声声鸟语。走着走着，忽然感到一阵清凉，才觉察有微风习习吹过，阵阵袭来的芬芳使你不由得驻足细细品味。清澈见底，纤尘不染的碧水中，鱼儿欢快地游动，红、绿、白各色卵石在水中闪亮；阳光透过林隙，在水面上洒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驳的影子，给人一种大自然安谧静美的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920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有了这山秀水，张家界便成了植物的宝库，动物的乐园。据统计，这里已发现的木本植物就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比欧洲多一倍以上，有活化石之称的珙桐、银杏、水杉比皆是。野生动物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种，属国家一、二类保护动物的有金钱豹、娃娃鱼、红腹锦鸡、猕猴等等。无论春夏秋冬，无论严寒酷暑，这里四季如春，景色怡人。那茫茫苍苍的绿色，奇异艳丽的花朵，使张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永远充满着生机与活力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9208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张家界举世无双的美学价值和科学价值，张家界于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被联合国列入世界自然遗产名录，张家界因此成为世界级的风景名胜，成为人类共同拥有和保护的宝贵财富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1797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迷人的张家界，名副其实的人间仙境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1240" y="609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6960" y="609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家界的武陵源被列入世界自然遗产名录，成为世界级的风景名胜。因此，吸引了大批游客观光旅游，于是，人们在风景区建了许多宾馆、饭店，大大方便了游客出行。可是，也有许多人反对这样做。你持哪种意见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52600" y="6384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25146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2754360" y="685800"/>
            <a:ext cx="3635280" cy="5486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685800" y="851040"/>
            <a:ext cx="7772400" cy="5154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685800" y="851040"/>
            <a:ext cx="7772400" cy="5154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85800" y="851040"/>
            <a:ext cx="7772400" cy="5154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685800" y="851040"/>
            <a:ext cx="7772400" cy="5154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685800" y="851040"/>
            <a:ext cx="7772400" cy="5154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919080" y="685800"/>
            <a:ext cx="7304040" cy="5486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1000"/>
                            </p:stCondLst>
                            <p:childTnLst>
                              <p:set>
                                <p:cBhvr>
                                  <p:cTn id="302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5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78652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353040" cy="253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2280" y="888840"/>
            <a:ext cx="3352680" cy="2463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48320" y="914400"/>
            <a:ext cx="342252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92280" y="3675240"/>
            <a:ext cx="34225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55200" y="160020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迷人的张家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23520" y="15685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cc"/>
                </a:solidFill>
                <a:latin typeface="Times New Roman"/>
                <a:ea typeface="隶书"/>
              </a:rPr>
              <a:t>迷人的张家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5576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68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录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117504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录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36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乐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108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乐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88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77524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3160" y="605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316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1240" y="609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336960" y="6095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914400"/>
            <a:ext cx="1879560" cy="281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172200" y="152280"/>
            <a:ext cx="2362320" cy="171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666880" cy="186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2600280" cy="2151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3886200"/>
            <a:ext cx="164448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098880" y="228600"/>
            <a:ext cx="2616120" cy="188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124080" y="4267080"/>
            <a:ext cx="2616480" cy="190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6248520" y="1981080"/>
            <a:ext cx="2361960" cy="181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52600" y="640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352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到张家界时，我就听人说，湖南的张家界地貌奇特，有着泰山之雄，华山之险，黄山之变化，桂林之秀丽。这次来张家界， 我才真正领略了这仙境般迷人的景色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257040" y="5181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523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362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76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029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8:50:44Z</dcterms:created>
  <dc:creator>eclispe</dc:creator>
  <dc:description/>
  <dc:language>en-US</dc:language>
  <cp:lastModifiedBy>zmj</cp:lastModifiedBy>
  <dcterms:modified xsi:type="dcterms:W3CDTF">2012-10-17T14:15:06Z</dcterms:modified>
  <cp:revision>11</cp:revision>
  <dc:subject/>
  <dc:title>Electric Superhero</dc:title>
</cp:coreProperties>
</file>