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8E1B-3815-412F-A2CD-E414208E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2BEB-CAA8-420A-B002-3A269D3E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E01-7787-49B7-B74E-39A10101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764-9E43-42B4-AB7A-F66A5210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1056-FE3E-41FE-B078-B53CEEDD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A8B-3902-4326-B5BB-95C96572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4E1-E8C3-4B88-9D47-5A394F5E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839-E730-445C-BD2B-44328FA2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E57-6BD1-4490-8866-C70EE3FC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D16-2E27-4852-AFD7-BFD43ADB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38F-0707-475C-80B4-41D76889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322F-4719-4EAD-ABC4-283AC1D3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C686-A31B-4E1A-9439-DBB953FD0E3E}" type="slidenum"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byb_huan.wav" TargetMode="External"/><Relationship Id="rId3" Type="http://schemas.openxmlformats.org/officeDocument/2006/relationships/hyperlink" Target="file:///byb_mao.wav" TargetMode="External"/><Relationship Id="rId4" Type="http://schemas.openxmlformats.org/officeDocument/2006/relationships/hyperlink" Target="file:///byb_xing.wav" TargetMode="External"/><Relationship Id="rId5" Type="http://schemas.openxmlformats.org/officeDocument/2006/relationships/hyperlink" Target="file:///byb_hong.wav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676520" y="1660680"/>
            <a:ext cx="5943600" cy="4968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29200" y="1447920"/>
            <a:ext cx="3809880" cy="2361960"/>
          </a:xfrm>
          <a:prstGeom prst="cloudCallout">
            <a:avLst>
              <a:gd name="adj1" fmla="val -47000"/>
              <a:gd name="adj2" fmla="val 75268"/>
            </a:avLst>
          </a:prstGeom>
          <a:solidFill>
            <a:srgbClr val="ffe7e7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这个农家小院里有哪些植物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哪些动物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2055960"/>
            <a:ext cx="830592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hu</a:t>
            </a:r>
            <a:r>
              <a:rPr b="1" lang="zh-CN" sz="24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á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niú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hu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m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zi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xi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  ni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2"/>
              </a:rPr>
              <a:t>黄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牛　花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3"/>
              </a:rPr>
              <a:t>猫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鸭 子　 小  鸟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3657600"/>
            <a:ext cx="762012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xìn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zi t</a:t>
            </a:r>
            <a:r>
              <a:rPr b="1" lang="zh-CN" sz="24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á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 zi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pín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u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ǒ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hón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z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4"/>
              </a:rPr>
              <a:t>杏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子 桃 子　苹 果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r>
              <a:rPr b="0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5"/>
              </a:rPr>
              <a:t>红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枣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40000" y="4869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六十铺中小学教育网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5943600" cy="4968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72200" y="1676520"/>
            <a:ext cx="2286000" cy="1600200"/>
          </a:xfrm>
          <a:prstGeom prst="cloudCallout">
            <a:avLst>
              <a:gd name="adj1" fmla="val -42569"/>
              <a:gd name="adj2" fmla="val 97518"/>
            </a:avLst>
          </a:prstGeom>
          <a:solidFill>
            <a:srgbClr val="ffe7e7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我们来数一数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943600" y="457200"/>
            <a:ext cx="3124080" cy="1981080"/>
          </a:xfrm>
          <a:prstGeom prst="cloudCallout">
            <a:avLst>
              <a:gd name="adj1" fmla="val -44361"/>
              <a:gd name="adj2" fmla="val 67148"/>
            </a:avLst>
          </a:prstGeom>
          <a:solidFill>
            <a:srgbClr val="ffe7e7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用自己最喜欢的方法朗读韵文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5280" y="1828800"/>
            <a:ext cx="7239240" cy="49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è d</a:t>
            </a:r>
            <a:r>
              <a:rPr b="1" lang="zh-CN" sz="28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è  xi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一　个 大，一　个　小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tóu  hu</a:t>
            </a:r>
            <a:r>
              <a:rPr b="1" lang="zh-CN" sz="28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á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niú y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zh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m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一　头　　黄　牛　一　只　　猫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bi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 du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ō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bi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 sh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边　  多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,  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一　　边　  少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buClr>
                <a:srgbClr val="80008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qún  y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zi  y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zh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ni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一　群　鸭　子　一　只　　鸟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71600" y="1828800"/>
            <a:ext cx="7315200" cy="43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è d</a:t>
            </a:r>
            <a:r>
              <a:rPr b="1" lang="zh-CN" sz="28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è xi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一　个 大，一　个　小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è  pín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u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ǒ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y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k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ē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z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一　个　苹　果， 一　颗　枣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bi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du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ō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bi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sh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一　　边　多，　一　　边　少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du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xìn</a:t>
            </a:r>
            <a:r>
              <a:rPr b="1" lang="zh-CN" sz="2800" spc="-1" strike="noStrike">
                <a:solidFill>
                  <a:srgbClr val="ff3300"/>
                </a:solidFill>
                <a:latin typeface="Century Gothic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zi y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ī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è  t</a:t>
            </a:r>
            <a:r>
              <a:rPr b="1" lang="zh-CN" sz="28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á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一　堆　　杏　子 一　个　桃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981080" y="1355760"/>
            <a:ext cx="6248160" cy="4981680"/>
            <a:chOff x="1981080" y="1355760"/>
            <a:chExt cx="6248160" cy="4981680"/>
          </a:xfrm>
        </p:grpSpPr>
        <p:grpSp>
          <p:nvGrpSpPr>
            <p:cNvPr id="57" name=""/>
            <p:cNvGrpSpPr/>
            <p:nvPr/>
          </p:nvGrpSpPr>
          <p:grpSpPr>
            <a:xfrm>
              <a:off x="2309760" y="1355760"/>
              <a:ext cx="5014440" cy="4765320"/>
              <a:chOff x="2309760" y="1355760"/>
              <a:chExt cx="5014440" cy="4765320"/>
            </a:xfrm>
          </p:grpSpPr>
          <p:pic>
            <p:nvPicPr>
              <p:cNvPr id="5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309760" y="1355760"/>
                <a:ext cx="5014440" cy="476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4693680" y="4397760"/>
                <a:ext cx="1150560" cy="575640"/>
              </a:xfrm>
              <a:prstGeom prst="wedgeEllipseCallout">
                <a:avLst>
                  <a:gd name="adj1" fmla="val 54462"/>
                  <a:gd name="adj2" fmla="val 5237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64646"/>
                    </a:solidFill>
                    <a:latin typeface="Times New Roman"/>
                  </a:rPr>
                  <a:t>一朵花</a:t>
                </a:r>
                <a:endParaRPr b="0" lang="en-US" sz="16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1981080" y="2342160"/>
              <a:ext cx="61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80"/>
                  </a:solidFill>
                  <a:latin typeface="楷体_GB2312"/>
                  <a:ea typeface="楷体_GB2312"/>
                </a:rPr>
                <a:t>（　　　）　（　　　）　 （　　　）</a:t>
              </a:r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63160" y="3986640"/>
              <a:ext cx="61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80"/>
                  </a:solidFill>
                  <a:latin typeface="楷体_GB2312"/>
                  <a:ea typeface="楷体_GB2312"/>
                </a:rPr>
                <a:t>（　　　）　（　　　）　 （　　　）</a:t>
              </a:r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27680" y="5877720"/>
              <a:ext cx="238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80"/>
                  </a:solidFill>
                  <a:latin typeface="楷体_GB2312"/>
                  <a:ea typeface="楷体_GB2312"/>
                </a:rPr>
                <a:t>（　　　）　</a:t>
              </a:r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219320" y="1093680"/>
            <a:ext cx="1931760" cy="582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867280" y="304920"/>
            <a:ext cx="1524240" cy="1066680"/>
          </a:xfrm>
          <a:prstGeom prst="cloudCallout">
            <a:avLst>
              <a:gd name="adj1" fmla="val -46250"/>
              <a:gd name="adj2" fmla="val 104314"/>
            </a:avLst>
          </a:prstGeom>
          <a:solidFill>
            <a:srgbClr val="ffe7e7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我会读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5943600" cy="4968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419720" y="990720"/>
            <a:ext cx="4190760" cy="2209680"/>
          </a:xfrm>
          <a:prstGeom prst="cloudCallout">
            <a:avLst>
              <a:gd name="adj1" fmla="val -43865"/>
              <a:gd name="adj2" fmla="val 69972"/>
            </a:avLst>
          </a:prstGeom>
          <a:solidFill>
            <a:srgbClr val="ffe7e7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看看农家小院里还有哪些东西？用上量词说一说。 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219320" y="1093680"/>
            <a:ext cx="1931760" cy="5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2:41:56Z</dcterms:created>
  <dc:creator/>
  <dc:description/>
  <dc:language>en-US</dc:language>
  <cp:lastModifiedBy>zmj</cp:lastModifiedBy>
  <dcterms:modified xsi:type="dcterms:W3CDTF">2012-08-15T15:18:25Z</dcterms:modified>
  <cp:revision>97</cp:revision>
  <dc:subject/>
  <dc:title>幻灯片 1</dc:title>
</cp:coreProperties>
</file>