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2590-4B17-46F4-A115-E0330A162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5BD0-3924-4A71-AFB6-2EA5A35A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409B-096F-4B0E-8E84-C85523A7B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6C8E-7FC6-4E8E-BFAF-854969005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5AD3B-E7B4-4042-A05A-F1C9DD6E9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DA78F-6117-4A79-B12F-13A7BA7F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C344A-51E4-49B4-A9DE-95D2A68C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05844-A904-49FD-9F3C-C733D98B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BBBDF-1376-47C4-B2AE-751E09BB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58B76-376F-4776-8687-9CF137DB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FC00A-C1EB-4677-8E45-01AB5894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4E1A-655C-43B4-8A36-1704549B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4E452-281B-4F79-9232-039BB82C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F82A7-3F46-4EAA-95BB-173FDA01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78649-1F2A-4002-9945-3768EC41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56DE8-8A5A-4CDA-8439-AB305699B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33EC8-935B-4A89-8206-FD49B723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B6519-7D6E-4BE9-8F6B-E2FFD9786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F3C53-BCBB-4B2B-A1B1-9FB3A133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C9978-740D-45F9-892F-3B07B135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5261C-DE63-4812-8F68-08949F5D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8BEF2-7CE7-466D-ACFC-9D49095E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DC1D-82A0-460B-BA61-23A9881F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1ACEF-1BC7-4D4C-BBE8-DCB949CA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81964-164D-454C-94F0-2FB75DB1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EE85E-9A89-4517-89D0-B086AB26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CBB7A-22C4-494C-B989-4E194A4B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249E8-7D32-4315-AB27-A0EE5B78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81B78-5DD3-45F0-8347-EEC34C3D7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763E7-66E2-4DE4-B045-767F64E7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97096-2B7E-4E5D-9B78-028C2240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FB5E5-B8B3-4302-A917-BF1D9C61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67982-CDE6-4442-8E78-15B7552C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5702-7B45-4684-8BFC-4B526A18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EDBD4-4BCB-46E9-A084-483B572A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E8213-9C3C-494D-8225-0BC8AF20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92558-1120-4A9D-BFD5-014F9E73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A6753-32AD-45CA-AD6A-6B73FA2D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9AF15-F716-43C9-87C3-A7D0B443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79032-4128-4154-80A1-24343296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70AEA-57C6-47EC-8040-A7D58D5E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BA59C-1D57-4B0A-99DB-E7F32FF00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61AFC-69FD-405E-832A-EC38DA1EF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25868-C352-4759-94E3-FFAA3BB6D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C070-DEC2-4882-8084-5FF82F65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B7990-F3FE-4CAA-84EF-CABB2231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42D98-784F-4444-B673-EDA519A8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D5DB8-5599-4309-9054-D0AB5485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80327-2F70-436F-925C-E7977CF4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BBE30-09BB-4D60-A7AA-5D6BC0BD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9A0B9-258F-49CE-A961-135C1BA7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8688B-A043-42F2-9187-1C3649A6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8E1F8-A531-47F9-8613-86DB95BF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42C4D-DAD7-4334-87A1-71367EEA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26553-E0D4-4A20-8795-88C9F08F8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9292-A117-4705-BEDF-292F739B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710AB-D5EA-4D93-8E84-69BA0E4F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F509E-A9C0-4051-A780-5F6D98758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BF4C4-A117-48A2-8DC9-A3A46469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6D7BE-8F0C-42AD-83FA-1EA50349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446FA-E608-41A6-B7CE-C825BC4B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C5746-8AB2-4727-BEA0-794D2615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A7E86-601F-4F2C-9355-435F3B87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DAF1D-6DAF-4904-807F-0CB909B7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05DE4-C7A2-4B3A-AC88-1EED5FD0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FB29E-DC67-4C05-BEF2-3F8D09AB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91AE-7203-43BF-B6BD-F8BB5365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20A39-4F5B-4982-BBCB-91E0E95E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AD31E-96AC-499A-9FFB-FD9CF0E55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FCD83-5F14-43FA-9CBE-82660604C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B18B-69EF-41E0-89E2-9521C08F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32EC-6C16-430B-BDCD-603916BC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7D6B-230A-4E83-83F2-93A8CE9A6AB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D127-DD50-4729-93E7-BA6D6284608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33C4-D8FD-4B9B-9355-0EB5DF2FFD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8B50-CC3C-46F0-A2C2-5538948ADF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86C7-B271-4060-963A-4C3FE43352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5B08-0632-4F93-9FB2-B89DFCCA79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11280" y="90792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通往广场的路不止一条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88000" y="429264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伊尔莎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·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斯奇培尔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3ff"/>
                </a:solidFill>
                <a:latin typeface="Arial"/>
              </a:rPr>
              <a:t>思考：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0" y="198900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</a:rPr>
              <a:t>　　课文讲了哪几件事？是哪几个自然段？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一</a:t>
            </a: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(1-3)</a:t>
            </a: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登塔顶，受教诲</a:t>
            </a:r>
            <a:br>
              <a:rPr sz="5400"/>
            </a:b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二</a:t>
            </a: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(4-11)</a:t>
            </a: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另辟鼷径，走出新路</a:t>
            </a:r>
            <a:br>
              <a:rPr sz="5400"/>
            </a:b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三</a:t>
            </a: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(12-13)</a:t>
            </a: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面对困难，再找出  路</a:t>
            </a:r>
            <a:br>
              <a:rPr sz="5400"/>
            </a:b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四</a:t>
            </a: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(14)</a:t>
            </a: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感谢父亲</a:t>
            </a: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一生受用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541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zh-CN" sz="6000" spc="-1" strike="noStrike">
                <a:solidFill>
                  <a:srgbClr val="ff6600"/>
                </a:solidFill>
                <a:latin typeface="Arial"/>
              </a:rPr>
              <a:t>脚底下</a:t>
            </a:r>
            <a:r>
              <a:rPr b="0" lang="zh-CN" sz="6000" spc="-1" strike="noStrike">
                <a:solidFill>
                  <a:srgbClr val="ff6600"/>
                </a:solidFill>
                <a:latin typeface="Arial"/>
              </a:rPr>
              <a:t>,</a:t>
            </a:r>
            <a:r>
              <a:rPr b="0" lang="zh-CN" sz="6000" spc="-1" strike="noStrike">
                <a:solidFill>
                  <a:srgbClr val="ffff00"/>
                </a:solidFill>
                <a:latin typeface="Arial"/>
              </a:rPr>
              <a:t>星罗棋布</a:t>
            </a:r>
            <a:r>
              <a:rPr b="0" lang="zh-CN" sz="6000" spc="-1" strike="noStrike">
                <a:solidFill>
                  <a:srgbClr val="ff6600"/>
                </a:solidFill>
                <a:latin typeface="Arial"/>
              </a:rPr>
              <a:t>的村庄</a:t>
            </a:r>
            <a:r>
              <a:rPr b="0" lang="zh-CN" sz="6000" spc="-1" strike="noStrike">
                <a:solidFill>
                  <a:srgbClr val="ff00ff"/>
                </a:solidFill>
                <a:latin typeface="Arial"/>
              </a:rPr>
              <a:t>环抱</a:t>
            </a:r>
            <a:r>
              <a:rPr b="0" lang="zh-CN" sz="6000" spc="-1" strike="noStrike">
                <a:solidFill>
                  <a:srgbClr val="ff6600"/>
                </a:solidFill>
                <a:latin typeface="Arial"/>
              </a:rPr>
              <a:t>着罗马</a:t>
            </a:r>
            <a:r>
              <a:rPr b="0" lang="zh-CN" sz="6000" spc="-1" strike="noStrike">
                <a:solidFill>
                  <a:srgbClr val="ff6600"/>
                </a:solidFill>
                <a:latin typeface="Arial"/>
              </a:rPr>
              <a:t>,</a:t>
            </a:r>
            <a:r>
              <a:rPr b="0" lang="zh-CN" sz="6000" spc="-1" strike="noStrike">
                <a:solidFill>
                  <a:srgbClr val="ff6600"/>
                </a:solidFill>
                <a:latin typeface="Arial"/>
              </a:rPr>
              <a:t>如蛛网般交叉的街道</a:t>
            </a:r>
            <a:r>
              <a:rPr b="0" lang="zh-CN" sz="6000" spc="-1" strike="noStrike">
                <a:solidFill>
                  <a:srgbClr val="ff6600"/>
                </a:solidFill>
                <a:latin typeface="Arial"/>
              </a:rPr>
              <a:t>,</a:t>
            </a:r>
            <a:r>
              <a:rPr b="0" lang="zh-CN" sz="6000" spc="-1" strike="noStrike">
                <a:solidFill>
                  <a:srgbClr val="ff6600"/>
                </a:solidFill>
                <a:latin typeface="Arial"/>
              </a:rPr>
              <a:t>一条条通往城市广场</a:t>
            </a:r>
            <a:r>
              <a:rPr b="0" lang="zh-CN" sz="60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332000" y="549360"/>
            <a:ext cx="669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Arial"/>
              </a:rPr>
              <a:t>      </a:t>
            </a:r>
            <a:r>
              <a:rPr b="0" lang="zh-CN" sz="6000" spc="-1" strike="noStrike">
                <a:solidFill>
                  <a:srgbClr val="ffff00"/>
                </a:solidFill>
                <a:latin typeface="Arial"/>
              </a:rPr>
              <a:t>通往广场的路不止一条</a:t>
            </a:r>
            <a:r>
              <a:rPr b="0" lang="zh-CN" sz="6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zh-CN" sz="6000" spc="-1" strike="noStrike">
                <a:solidFill>
                  <a:srgbClr val="ffff00"/>
                </a:solidFill>
                <a:latin typeface="Arial"/>
              </a:rPr>
              <a:t>生活也是这样</a:t>
            </a:r>
            <a:r>
              <a:rPr b="0" lang="zh-CN" sz="6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zh-CN" sz="6000" spc="-1" strike="noStrike">
                <a:solidFill>
                  <a:srgbClr val="ffff00"/>
                </a:solidFill>
                <a:latin typeface="Arial"/>
              </a:rPr>
              <a:t>假如你发现走这条路不能到达目的地的话</a:t>
            </a:r>
            <a:r>
              <a:rPr b="0" lang="zh-CN" sz="60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zh-CN" sz="6000" spc="-1" strike="noStrike">
                <a:solidFill>
                  <a:srgbClr val="ffff00"/>
                </a:solidFill>
                <a:latin typeface="Arial"/>
              </a:rPr>
              <a:t>就可以走另一条路试试</a:t>
            </a: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1:34:56Z</dcterms:created>
  <dc:creator>MC SYSTEM</dc:creator>
  <dc:description/>
  <dc:language>en-US</dc:language>
  <cp:lastModifiedBy>MC SYSTEM</cp:lastModifiedBy>
  <dcterms:modified xsi:type="dcterms:W3CDTF">2007-10-28T12:03:54Z</dcterms:modified>
  <cp:revision>3</cp:revision>
  <dc:subject/>
  <dc:title>幻灯片 1</dc:title>
</cp:coreProperties>
</file>