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83" descr="1.png"/>
          <p:cNvPicPr/>
          <p:nvPr/>
        </p:nvPicPr>
        <p:blipFill>
          <a:blip r:embed="rId1"/>
          <a:stretch/>
        </p:blipFill>
        <p:spPr>
          <a:xfrm>
            <a:off x="1833480" y="1346040"/>
            <a:ext cx="6166080" cy="16862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4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"/>
          <p:cNvGrpSpPr/>
          <p:nvPr/>
        </p:nvGrpSpPr>
        <p:grpSpPr>
          <a:xfrm>
            <a:off x="5076000" y="4236840"/>
            <a:ext cx="2057400" cy="918000"/>
            <a:chOff x="5076000" y="4236840"/>
            <a:chExt cx="2057400" cy="918000"/>
          </a:xfrm>
        </p:grpSpPr>
        <p:sp>
          <p:nvSpPr>
            <p:cNvPr id="77" name="AutoShape 12"/>
            <p:cNvSpPr/>
            <p:nvPr/>
          </p:nvSpPr>
          <p:spPr>
            <a:xfrm rot="21339600">
              <a:off x="5101920" y="431136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3"/>
            <p:cNvSpPr/>
            <p:nvPr/>
          </p:nvSpPr>
          <p:spPr>
            <a:xfrm rot="21339600">
              <a:off x="5150520" y="433728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1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容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905040" cy="246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1979640" y="2163600"/>
            <a:ext cx="1457280" cy="2724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4119480" y="2421000"/>
            <a:ext cx="1324080" cy="23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5940360" y="2870280"/>
            <a:ext cx="26956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78048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5372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4985640" y="2771640"/>
            <a:ext cx="91188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桶装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8051040" y="324648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波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108000" y="49118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3"/>
          <p:cNvSpPr/>
          <p:nvPr/>
        </p:nvSpPr>
        <p:spPr>
          <a:xfrm>
            <a:off x="647640" y="534348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755640" y="48499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2068560" y="4915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6"/>
          <p:cNvSpPr/>
          <p:nvPr/>
        </p:nvSpPr>
        <p:spPr>
          <a:xfrm>
            <a:off x="2608200" y="534672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2716200" y="48531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4119480" y="4915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9"/>
          <p:cNvSpPr/>
          <p:nvPr/>
        </p:nvSpPr>
        <p:spPr>
          <a:xfrm>
            <a:off x="4768920" y="534672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4876920" y="48531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6516720" y="49150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2"/>
          <p:cNvSpPr/>
          <p:nvPr/>
        </p:nvSpPr>
        <p:spPr>
          <a:xfrm>
            <a:off x="7056360" y="534672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7164360" y="485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杯中大约有多少毫升饮料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1255680" y="2467080"/>
            <a:ext cx="723960" cy="1923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3995640" y="2514600"/>
            <a:ext cx="72396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4"/>
          <a:stretch/>
        </p:blipFill>
        <p:spPr>
          <a:xfrm>
            <a:off x="6516720" y="2467080"/>
            <a:ext cx="736560" cy="18763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7"/>
          <p:cNvSpPr/>
          <p:nvPr/>
        </p:nvSpPr>
        <p:spPr>
          <a:xfrm>
            <a:off x="75564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容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298764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9"/>
          <p:cNvSpPr/>
          <p:nvPr/>
        </p:nvSpPr>
        <p:spPr>
          <a:xfrm>
            <a:off x="594036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弧形 32"/>
          <p:cNvSpPr/>
          <p:nvPr/>
        </p:nvSpPr>
        <p:spPr>
          <a:xfrm flipV="1">
            <a:off x="4022640" y="2959920"/>
            <a:ext cx="649440" cy="181080"/>
          </a:xfrm>
          <a:custGeom>
            <a:avLst/>
            <a:gdLst/>
            <a:ahLst/>
            <a:rect l="l" t="t" r="r" b="b"/>
            <a:pathLst>
              <a:path stroke="0" w="649287" h="180975">
                <a:moveTo>
                  <a:pt x="14748" y="63523"/>
                </a:moveTo>
                <a:cubicBezTo>
                  <a:pt x="55915" y="26697"/>
                  <a:pt x="179093" y="0"/>
                  <a:pt x="324642" y="0"/>
                </a:cubicBezTo>
                <a:cubicBezTo>
                  <a:pt x="503937" y="0"/>
                  <a:pt x="649285" y="40512"/>
                  <a:pt x="649285" y="90487"/>
                </a:cubicBezTo>
                <a:lnTo>
                  <a:pt x="324643" y="90487"/>
                </a:lnTo>
                <a:close/>
              </a:path>
              <a:path fill="none" w="649287" h="180975">
                <a:moveTo>
                  <a:pt x="14748" y="63523"/>
                </a:moveTo>
                <a:cubicBezTo>
                  <a:pt x="55915" y="26697"/>
                  <a:pt x="179093" y="0"/>
                  <a:pt x="324642" y="0"/>
                </a:cubicBezTo>
                <a:cubicBezTo>
                  <a:pt x="503937" y="0"/>
                  <a:pt x="649285" y="40512"/>
                  <a:pt x="649285" y="9048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弧形 33"/>
          <p:cNvSpPr/>
          <p:nvPr/>
        </p:nvSpPr>
        <p:spPr>
          <a:xfrm flipV="1">
            <a:off x="4022640" y="3534480"/>
            <a:ext cx="649440" cy="179640"/>
          </a:xfrm>
          <a:custGeom>
            <a:avLst/>
            <a:gdLst/>
            <a:ahLst/>
            <a:rect l="l" t="t" r="r" b="b"/>
            <a:pathLst>
              <a:path stroke="0" w="649287" h="179387">
                <a:moveTo>
                  <a:pt x="14993" y="62750"/>
                </a:moveTo>
                <a:cubicBezTo>
                  <a:pt x="56401" y="26359"/>
                  <a:pt x="179380" y="0"/>
                  <a:pt x="324643" y="0"/>
                </a:cubicBezTo>
                <a:cubicBezTo>
                  <a:pt x="503938" y="0"/>
                  <a:pt x="649286" y="40157"/>
                  <a:pt x="649286" y="89693"/>
                </a:cubicBezTo>
                <a:lnTo>
                  <a:pt x="324643" y="89693"/>
                </a:lnTo>
                <a:close/>
              </a:path>
              <a:path fill="none" w="649287" h="179387">
                <a:moveTo>
                  <a:pt x="14993" y="62750"/>
                </a:moveTo>
                <a:cubicBezTo>
                  <a:pt x="56401" y="26359"/>
                  <a:pt x="179380" y="0"/>
                  <a:pt x="324643" y="0"/>
                </a:cubicBezTo>
                <a:cubicBezTo>
                  <a:pt x="503938" y="0"/>
                  <a:pt x="649286" y="40157"/>
                  <a:pt x="649286" y="8969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弧形 34"/>
          <p:cNvSpPr/>
          <p:nvPr/>
        </p:nvSpPr>
        <p:spPr>
          <a:xfrm flipV="1">
            <a:off x="6556320" y="2959920"/>
            <a:ext cx="649440" cy="181080"/>
          </a:xfrm>
          <a:custGeom>
            <a:avLst/>
            <a:gdLst/>
            <a:ahLst/>
            <a:rect l="l" t="t" r="r" b="b"/>
            <a:pathLst>
              <a:path stroke="0" w="649287" h="180975">
                <a:moveTo>
                  <a:pt x="14748" y="63523"/>
                </a:moveTo>
                <a:cubicBezTo>
                  <a:pt x="55915" y="26697"/>
                  <a:pt x="179093" y="0"/>
                  <a:pt x="324642" y="0"/>
                </a:cubicBezTo>
                <a:cubicBezTo>
                  <a:pt x="503937" y="0"/>
                  <a:pt x="649285" y="40512"/>
                  <a:pt x="649285" y="90487"/>
                </a:cubicBezTo>
                <a:lnTo>
                  <a:pt x="324643" y="90487"/>
                </a:lnTo>
                <a:close/>
              </a:path>
              <a:path fill="none" w="649287" h="180975">
                <a:moveTo>
                  <a:pt x="14748" y="63523"/>
                </a:moveTo>
                <a:cubicBezTo>
                  <a:pt x="55915" y="26697"/>
                  <a:pt x="179093" y="0"/>
                  <a:pt x="324642" y="0"/>
                </a:cubicBezTo>
                <a:cubicBezTo>
                  <a:pt x="503937" y="0"/>
                  <a:pt x="649285" y="40512"/>
                  <a:pt x="649285" y="9048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弧形 35"/>
          <p:cNvSpPr/>
          <p:nvPr/>
        </p:nvSpPr>
        <p:spPr>
          <a:xfrm flipV="1">
            <a:off x="6556320" y="3534480"/>
            <a:ext cx="649440" cy="179640"/>
          </a:xfrm>
          <a:custGeom>
            <a:avLst/>
            <a:gdLst/>
            <a:ahLst/>
            <a:rect l="l" t="t" r="r" b="b"/>
            <a:pathLst>
              <a:path stroke="0" w="649287" h="179387">
                <a:moveTo>
                  <a:pt x="14993" y="62750"/>
                </a:moveTo>
                <a:cubicBezTo>
                  <a:pt x="56401" y="26359"/>
                  <a:pt x="179380" y="0"/>
                  <a:pt x="324643" y="0"/>
                </a:cubicBezTo>
                <a:cubicBezTo>
                  <a:pt x="503938" y="0"/>
                  <a:pt x="649286" y="40157"/>
                  <a:pt x="649286" y="89693"/>
                </a:cubicBezTo>
                <a:lnTo>
                  <a:pt x="324643" y="89693"/>
                </a:lnTo>
                <a:close/>
              </a:path>
              <a:path fill="none" w="649287" h="179387">
                <a:moveTo>
                  <a:pt x="14993" y="62750"/>
                </a:moveTo>
                <a:cubicBezTo>
                  <a:pt x="56401" y="26359"/>
                  <a:pt x="179380" y="0"/>
                  <a:pt x="324643" y="0"/>
                </a:cubicBezTo>
                <a:cubicBezTo>
                  <a:pt x="503938" y="0"/>
                  <a:pt x="649286" y="40157"/>
                  <a:pt x="649286" y="8969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6"/>
          <p:cNvSpPr/>
          <p:nvPr/>
        </p:nvSpPr>
        <p:spPr>
          <a:xfrm>
            <a:off x="4317840" y="459900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7"/>
          <p:cNvSpPr/>
          <p:nvPr/>
        </p:nvSpPr>
        <p:spPr>
          <a:xfrm>
            <a:off x="7283520" y="458316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图形都是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体搭成的，分别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15" descr="22.png"/>
          <p:cNvPicPr/>
          <p:nvPr/>
        </p:nvPicPr>
        <p:blipFill>
          <a:blip r:embed="rId2"/>
          <a:stretch/>
        </p:blipFill>
        <p:spPr>
          <a:xfrm>
            <a:off x="1182600" y="2955960"/>
            <a:ext cx="1884600" cy="14209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6" descr="23.png"/>
          <p:cNvPicPr/>
          <p:nvPr/>
        </p:nvPicPr>
        <p:blipFill>
          <a:blip r:embed="rId3"/>
          <a:stretch/>
        </p:blipFill>
        <p:spPr>
          <a:xfrm>
            <a:off x="3773520" y="2664000"/>
            <a:ext cx="1957320" cy="1963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7" descr="24.png"/>
          <p:cNvPicPr/>
          <p:nvPr/>
        </p:nvPicPr>
        <p:blipFill>
          <a:blip r:embed="rId4"/>
          <a:stretch/>
        </p:blipFill>
        <p:spPr>
          <a:xfrm>
            <a:off x="6724800" y="3255840"/>
            <a:ext cx="1309680" cy="1121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9"/>
          <p:cNvSpPr/>
          <p:nvPr/>
        </p:nvSpPr>
        <p:spPr>
          <a:xfrm>
            <a:off x="539640" y="1496880"/>
            <a:ext cx="8120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苹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西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台冰箱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橡皮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墨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热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003640" y="22366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691160" y="28940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051520" y="35244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643280" y="41608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5508720" y="47782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5003640" y="544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539640" y="1496880"/>
            <a:ext cx="8120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践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一些物体的体积或容积，记录下来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2" descr="25.png"/>
          <p:cNvPicPr/>
          <p:nvPr/>
        </p:nvPicPr>
        <p:blipFill>
          <a:blip r:embed="rId2"/>
          <a:stretch/>
        </p:blipFill>
        <p:spPr>
          <a:xfrm>
            <a:off x="2556000" y="3780000"/>
            <a:ext cx="5719680" cy="16984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矩形 3" descr=""/>
          <p:cNvPicPr/>
          <p:nvPr/>
        </p:nvPicPr>
        <p:blipFill>
          <a:blip r:embed="rId1"/>
          <a:stretch/>
        </p:blipFill>
        <p:spPr>
          <a:xfrm>
            <a:off x="901800" y="542880"/>
            <a:ext cx="2798640" cy="907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84360" y="1511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长度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716360" y="1511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面积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68360" y="2852640"/>
          <a:ext cx="6516720" cy="1297080"/>
        </p:xfrm>
        <a:graphic>
          <a:graphicData uri="http://schemas.openxmlformats.org/drawingml/2006/table">
            <a:tbl>
              <a:tblPr/>
              <a:tblGrid>
                <a:gridCol w="1655640"/>
                <a:gridCol w="1621080"/>
                <a:gridCol w="1619280"/>
                <a:gridCol w="162072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度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组合 9"/>
          <p:cNvGrpSpPr/>
          <p:nvPr/>
        </p:nvGrpSpPr>
        <p:grpSpPr>
          <a:xfrm>
            <a:off x="826920" y="2205000"/>
            <a:ext cx="8048880" cy="520560"/>
            <a:chOff x="826920" y="2205000"/>
            <a:chExt cx="8048880" cy="520560"/>
          </a:xfrm>
        </p:grpSpPr>
        <p:pic>
          <p:nvPicPr>
            <p:cNvPr id="86" name="图片 7" descr="1.png"/>
            <p:cNvPicPr/>
            <p:nvPr/>
          </p:nvPicPr>
          <p:blipFill>
            <a:blip r:embed="rId2"/>
            <a:stretch/>
          </p:blipFill>
          <p:spPr>
            <a:xfrm>
              <a:off x="826920" y="229608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8"/>
            <p:cNvSpPr/>
            <p:nvPr/>
          </p:nvSpPr>
          <p:spPr>
            <a:xfrm>
              <a:off x="1298880" y="2205000"/>
              <a:ext cx="75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" name=""/>
          <p:cNvGraphicFramePr/>
          <p:nvPr/>
        </p:nvGraphicFramePr>
        <p:xfrm>
          <a:off x="1368360" y="4149720"/>
          <a:ext cx="6516720" cy="647640"/>
        </p:xfrm>
        <a:graphic>
          <a:graphicData uri="http://schemas.openxmlformats.org/drawingml/2006/table">
            <a:tbl>
              <a:tblPr/>
              <a:tblGrid>
                <a:gridCol w="1655640"/>
                <a:gridCol w="1621080"/>
                <a:gridCol w="1619280"/>
                <a:gridCol w="162072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体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9"/>
          <p:cNvGrpSpPr/>
          <p:nvPr/>
        </p:nvGrpSpPr>
        <p:grpSpPr>
          <a:xfrm>
            <a:off x="826920" y="1125360"/>
            <a:ext cx="8048880" cy="520560"/>
            <a:chOff x="826920" y="1125360"/>
            <a:chExt cx="8048880" cy="520560"/>
          </a:xfrm>
        </p:grpSpPr>
        <p:pic>
          <p:nvPicPr>
            <p:cNvPr id="90" name="图片 7" descr="1.png"/>
            <p:cNvPicPr/>
            <p:nvPr/>
          </p:nvPicPr>
          <p:blipFill>
            <a:blip r:embed="rId1"/>
            <a:stretch/>
          </p:blipFill>
          <p:spPr>
            <a:xfrm>
              <a:off x="826920" y="121644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8"/>
            <p:cNvSpPr/>
            <p:nvPr/>
          </p:nvSpPr>
          <p:spPr>
            <a:xfrm>
              <a:off x="1298880" y="1125360"/>
              <a:ext cx="75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9"/>
          <p:cNvSpPr/>
          <p:nvPr/>
        </p:nvSpPr>
        <p:spPr>
          <a:xfrm>
            <a:off x="171360" y="2205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63440" y="28335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分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163440" y="34815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6" descr="1.png"/>
          <p:cNvPicPr/>
          <p:nvPr/>
        </p:nvPicPr>
        <p:blipFill>
          <a:blip r:embed="rId1"/>
          <a:stretch/>
        </p:blipFill>
        <p:spPr>
          <a:xfrm>
            <a:off x="1171440" y="94932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635120" y="86832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，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71400" y="1700280"/>
            <a:ext cx="7788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" descr="1.png"/>
          <p:cNvPicPr/>
          <p:nvPr/>
        </p:nvPicPr>
        <p:blipFill>
          <a:blip r:embed="rId1"/>
          <a:stretch/>
        </p:blipFill>
        <p:spPr>
          <a:xfrm>
            <a:off x="1163520" y="11174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635120" y="10080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中还有哪些物体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900000" y="2147760"/>
            <a:ext cx="2105280" cy="256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3581280" y="2104920"/>
            <a:ext cx="1981440" cy="264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6372360" y="2065320"/>
            <a:ext cx="2232000" cy="2644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755640" y="48308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粒花生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203640" y="4869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粉笔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084720" y="486900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寸电视机包装箱的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了哪些体积单位？举例说一说这些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际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81080" y="2421000"/>
            <a:ext cx="8783640" cy="1249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08000" y="3672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铅笔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83528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橡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56400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膏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50872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果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38036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装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108000" y="44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1"/>
          <p:cNvSpPr/>
          <p:nvPr/>
        </p:nvSpPr>
        <p:spPr>
          <a:xfrm>
            <a:off x="647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183528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3"/>
          <p:cNvSpPr/>
          <p:nvPr/>
        </p:nvSpPr>
        <p:spPr>
          <a:xfrm>
            <a:off x="2376360" y="486900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356400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5"/>
          <p:cNvSpPr/>
          <p:nvPr/>
        </p:nvSpPr>
        <p:spPr>
          <a:xfrm>
            <a:off x="4103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543564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7"/>
          <p:cNvSpPr/>
          <p:nvPr/>
        </p:nvSpPr>
        <p:spPr>
          <a:xfrm>
            <a:off x="5977080" y="486900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730872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9"/>
          <p:cNvSpPr/>
          <p:nvPr/>
        </p:nvSpPr>
        <p:spPr>
          <a:xfrm>
            <a:off x="784872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755640" y="43750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2513160" y="437832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4211640" y="44053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6108840" y="43894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7956720" y="44053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27160" y="2211480"/>
            <a:ext cx="165744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10"/>
          <p:cNvGrpSpPr/>
          <p:nvPr/>
        </p:nvGrpSpPr>
        <p:grpSpPr>
          <a:xfrm>
            <a:off x="1639800" y="3695760"/>
            <a:ext cx="2354400" cy="1620720"/>
            <a:chOff x="1639800" y="3695760"/>
            <a:chExt cx="2354400" cy="1620720"/>
          </a:xfrm>
        </p:grpSpPr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1639800" y="3695760"/>
              <a:ext cx="23544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椭圆 9"/>
            <p:cNvSpPr/>
            <p:nvPr/>
          </p:nvSpPr>
          <p:spPr>
            <a:xfrm>
              <a:off x="1760760" y="3798720"/>
              <a:ext cx="2127600" cy="140688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4732200" y="2133720"/>
            <a:ext cx="2810160" cy="337176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15"/>
          <p:cNvGrpSpPr/>
          <p:nvPr/>
        </p:nvGrpSpPr>
        <p:grpSpPr>
          <a:xfrm>
            <a:off x="5092560" y="3606840"/>
            <a:ext cx="2268720" cy="1614600"/>
            <a:chOff x="5092560" y="3606840"/>
            <a:chExt cx="2268720" cy="1614600"/>
          </a:xfrm>
        </p:grpSpPr>
        <p:pic>
          <p:nvPicPr>
            <p:cNvPr id="143" name="Picture 6" descr=""/>
            <p:cNvPicPr/>
            <p:nvPr/>
          </p:nvPicPr>
          <p:blipFill>
            <a:blip r:embed="rId4"/>
            <a:stretch/>
          </p:blipFill>
          <p:spPr>
            <a:xfrm>
              <a:off x="5092560" y="3606840"/>
              <a:ext cx="22687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椭圆 14"/>
            <p:cNvSpPr/>
            <p:nvPr/>
          </p:nvSpPr>
          <p:spPr>
            <a:xfrm>
              <a:off x="5160960" y="3722760"/>
              <a:ext cx="2149560" cy="143388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图片 6" descr="1.png"/>
          <p:cNvPicPr/>
          <p:nvPr/>
        </p:nvPicPr>
        <p:blipFill>
          <a:blip r:embed="rId5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4.png"/>
          <p:cNvPicPr/>
          <p:nvPr/>
        </p:nvPicPr>
        <p:blipFill>
          <a:blip r:embed="rId6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内盛放液体的量一般用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毫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作单位。看一看，认一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690480" y="531648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684360" y="58579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6" descr="1.png"/>
          <p:cNvPicPr/>
          <p:nvPr/>
        </p:nvPicPr>
        <p:blipFill>
          <a:blip r:embed="rId1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4.png"/>
          <p:cNvPicPr/>
          <p:nvPr/>
        </p:nvPicPr>
        <p:blipFill>
          <a:blip r:embed="rId2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115920" y="2168640"/>
            <a:ext cx="8848800" cy="3060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584640" y="6083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00640" y="629928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Administrator</cp:lastModifiedBy>
  <dcterms:modified xsi:type="dcterms:W3CDTF">2020-09-21T11:54:36Z</dcterms:modified>
  <cp:revision>32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NXTAG2">
    <vt:lpwstr>0008000e22000000000001024140</vt:lpwstr>
  </property>
</Properties>
</file>